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159-CE22-4CC2-8D1F-2FE10A89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6D9-5D26-4A4C-9BF4-D499E519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56F-BE1A-4C9F-BB95-85FB61A1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139-DFC0-40C9-9109-ABD719DA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6B2-58D3-4020-8CC2-539F645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208-F4DA-4C89-8D22-27641FB9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E55-1946-4BBD-B550-A7827AA1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A5A-955D-47D0-B7F4-0B1C6C58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EC7-5C5F-4B24-8CD7-50E0BE2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FF0-A8A7-4A83-BFFC-CFA0D07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A53-3D99-4412-AEF3-9195D550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01D-A574-4577-9A57-7B8B653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9CDC-F74F-405B-9A34-18F4F91F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600200"/>
            <a:ext cx="2743200" cy="2743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1676520"/>
            <a:ext cx="2590920" cy="2590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600200"/>
            <a:ext cx="289548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676520"/>
            <a:ext cx="2743200" cy="2743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752480"/>
            <a:ext cx="2590920" cy="2590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828800"/>
            <a:ext cx="2438280" cy="2438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1905120"/>
            <a:ext cx="2286000" cy="228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1981080"/>
            <a:ext cx="2133720" cy="213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1981080" cy="1981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13372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2209680"/>
            <a:ext cx="167652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286000"/>
            <a:ext cx="1523880" cy="1523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2362320"/>
            <a:ext cx="1371600" cy="1371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438280"/>
            <a:ext cx="121932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2514600"/>
            <a:ext cx="106668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25909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666880"/>
            <a:ext cx="7621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74320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590920"/>
            <a:ext cx="6094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ircle is the Largest (outsid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688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828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7920" y="182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52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09720" y="1523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8112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82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523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04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ne is the Lon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019160"/>
            <a:ext cx="6096240" cy="481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90468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9586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3049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hicken is the Larges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38400" y="1047600"/>
            <a:ext cx="6667200" cy="4762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336600" cy="68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336600" cy="68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228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Man is Talle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22860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81080"/>
            <a:ext cx="175248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981080"/>
            <a:ext cx="1752480" cy="1752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1752480" cy="1752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1981080"/>
            <a:ext cx="1752480" cy="1752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438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438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198108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1:52:24Z</dcterms:created>
  <dc:creator>Patrick J. Mooney</dc:creator>
  <dc:description/>
  <dc:language>en-US</dc:language>
  <cp:lastModifiedBy>Patrick J. Mooney</cp:lastModifiedBy>
  <dcterms:modified xsi:type="dcterms:W3CDTF">2011-09-20T02:37:55Z</dcterms:modified>
  <cp:revision>2</cp:revision>
  <dc:subject/>
  <dc:title>Slide 1</dc:title>
</cp:coreProperties>
</file>